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51E-4F3F-4DAF-9994-E5AB320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544-6E7C-4B01-A0C7-760D47A4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519-A245-4FB7-858E-302E5EE9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D9D-57C6-46E1-B05E-48454FDC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8F4-77C6-43C4-9DF8-3D002D2F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231-BD56-4273-941E-B3AFD23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DE6-8DEE-49F3-AC21-CD38ECB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923-5A83-4855-83E8-FAABCE6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D85-FBAD-411A-BE5B-F79AFE2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C54-D46C-46CF-A622-23EAC2F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CDF-097C-4F8C-87BD-563C0753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23E-542C-486C-872B-899C0C9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0AF-5FF1-4BA8-85CD-27C4143FD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802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29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compras una camis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ablas con el empleado en la tie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talla us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nto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onde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de Vocabul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95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ndres’ family tree with the correct title of the members. (follow th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rbol, ejemplo"/>
          <p:cNvPicPr/>
          <p:nvPr/>
        </p:nvPicPr>
        <p:blipFill>
          <a:blip r:embed="rId1"/>
          <a:stretch/>
        </p:blipFill>
        <p:spPr>
          <a:xfrm>
            <a:off x="2286000" y="1905120"/>
            <a:ext cx="5181480" cy="479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119680" y="594360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ij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76720" y="28954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657600" y="28954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24280" y="29718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3200400" y="4419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4290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350532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6095880" y="4724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648320" y="4495680"/>
            <a:ext cx="121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962520" y="586728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981080" y="47242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943600" y="45720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76720" y="419112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486400" y="603396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7010280" y="553068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a hoja aparte, inventa una familia y crea un árbol familiar de la familia. CREATIVIDAD POR FAVO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s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dcterms:modified xsi:type="dcterms:W3CDTF">2014-09-29T19:25:23Z</dcterms:modified>
  <cp:revision>15</cp:revision>
  <dc:subject/>
  <dc:title>Slide 1</dc:title>
</cp:coreProperties>
</file>